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333E-3994-4BE2-9ED3-631F0E6C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15AC-17DB-4FBE-9A28-70B0DF82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4CED-CF2A-4506-82EF-6EF9A86E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D0BF-9824-4600-BA92-E89B7665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DDE-42DE-4516-B57F-4785FEE4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7F1C-D4AD-4009-B771-6A5BB869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6DCE-1B97-4333-97CB-B901CDFA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30E-C260-4185-95D1-D059A200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1CB9-EFA3-40A3-B9ED-7B7BD6F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487-09B4-4554-BB1D-BD4F67C0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4726-A82A-4A43-9677-AAF8893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5194-0078-464D-AB86-74FFC7B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2DE-1E8B-4069-87BB-F36259AC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F7E-9F5D-476E-9ECE-9829BE8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AE5-A60A-4B57-B662-9EF8DF2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7129-0FDB-45DC-B1BA-C6427D11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4136-49BE-410B-9E15-6EAE522C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CC9F-89F1-42AD-8E99-116F4B43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CE6A-05CA-4687-81AE-36B809B9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5C67-2F97-481F-9B17-6B352E71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851A-B7A1-4608-AF37-619D5DF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FD1A-A94C-44BC-B7F5-B8DEBDA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2880-F4C2-4312-8A12-01CDA46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5739-40F4-4A52-AE5A-1EE2403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C409-A2BF-41C0-BC7F-4197D620A2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9FF-6940-4650-9E80-C9ACBA9E60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Sight Word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23880" y="3198960"/>
            <a:ext cx="64008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dergar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strips dir="rd"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93" name="_s9220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6" name="_s9221"/>
            <p:cNvCxnSpPr>
              <a:stCxn id="197" idx="0"/>
              <a:endCxn id="19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8" name="_s9222"/>
            <p:cNvCxnSpPr>
              <a:stCxn id="199" idx="0"/>
              <a:endCxn id="19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95" name="_s922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_s922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_s922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_s922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glo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" dur="2500" autoRev="1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14" dur="2500" autoRev="1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15" dur="2500" autoRev="1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" dur="2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19" dur="2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20" dur="25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3" dur="250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24" dur="250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25" dur="250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8" dur="2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29" dur="2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30" dur="2500" autoRev="1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01" name="_s10244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4" name="_s10245"/>
            <p:cNvCxnSpPr>
              <a:stCxn id="205" idx="0"/>
              <a:endCxn id="20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6" name="_s10246"/>
            <p:cNvCxnSpPr>
              <a:stCxn id="207" idx="0"/>
              <a:endCxn id="20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3" name="_s1024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J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_s1024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Januar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_s1024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Jun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25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Jul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250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37" dur="250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38" dur="250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42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43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6" dur="2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47" dur="2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48" dur="250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" dur="2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52" dur="2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53" dur="2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09" name="_s11268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2" name="_s11269"/>
            <p:cNvCxnSpPr>
              <a:stCxn id="213" idx="0"/>
              <a:endCxn id="21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4" name="_s11270"/>
            <p:cNvCxnSpPr>
              <a:stCxn id="215" idx="0"/>
              <a:endCxn id="21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11" name="_s1127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_s1127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kin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_s1127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King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_s1127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ke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" dur="2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60" dur="2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61" dur="2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2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65" dur="2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66" dur="2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9" dur="2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70" dur="2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71" dur="250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4" dur="2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75" dur="2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76" dur="2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17" name="_s12292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0" name="_s12293"/>
            <p:cNvCxnSpPr>
              <a:stCxn id="221" idx="0"/>
              <a:endCxn id="21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2" name="_s12294"/>
            <p:cNvCxnSpPr>
              <a:stCxn id="223" idx="0"/>
              <a:endCxn id="21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19" name="_s1229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_s1229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loo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_s1229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lik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_s1229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lov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2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83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84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7" dur="2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88" dur="2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89" dur="250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2" dur="2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93" dur="2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94" dur="250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7" dur="2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98" dur="2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99" dur="2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25" name="_s13316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8" name="_s13317"/>
            <p:cNvCxnSpPr>
              <a:stCxn id="229" idx="0"/>
              <a:endCxn id="22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0" name="_s13318"/>
            <p:cNvCxnSpPr>
              <a:stCxn id="231" idx="0"/>
              <a:endCxn id="22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27" name="_s1331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_s1332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_s1332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_s1332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onda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5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06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07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0" dur="250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11" dur="250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12" dur="250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5" dur="250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16" dur="250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17" dur="250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0" dur="250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1" dur="250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22" dur="250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33" name="_s14340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6" name="_s14341"/>
            <p:cNvCxnSpPr>
              <a:stCxn id="237" idx="0"/>
              <a:endCxn id="23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38" name="_s14342"/>
            <p:cNvCxnSpPr>
              <a:stCxn id="239" idx="0"/>
              <a:endCxn id="23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35" name="_s1434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_s1434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no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434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n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434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November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8" dur="2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9" dur="2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30" dur="2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3" dur="2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34" dur="2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35" dur="25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2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39" dur="2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40" dur="250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2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44" dur="2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45" dur="2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41" name="_s15364"/>
            <p:cNvCxnSpPr>
              <a:stCxn id="242" idx="0"/>
              <a:endCxn id="24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4" name="_s15365"/>
            <p:cNvCxnSpPr>
              <a:stCxn id="245" idx="0"/>
              <a:endCxn id="24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_s15366"/>
            <p:cNvCxnSpPr>
              <a:stCxn id="247" idx="0"/>
              <a:endCxn id="24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43" name="_s1536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_s1536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_s1536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orang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_s1537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on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1" dur="2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52" dur="2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53" dur="2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6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57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58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1" dur="2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62" dur="2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63" dur="250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6" dur="2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67" dur="2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68" dur="2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49" name="_s16388"/>
            <p:cNvCxnSpPr>
              <a:stCxn id="250" idx="0"/>
              <a:endCxn id="25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2" name="_s16389"/>
            <p:cNvCxnSpPr>
              <a:stCxn id="253" idx="0"/>
              <a:endCxn id="25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4" name="_s16390"/>
            <p:cNvCxnSpPr>
              <a:stCxn id="255" idx="0"/>
              <a:endCxn id="25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51" name="_s1639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_s1639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purpl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_s1639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pin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_s1639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pi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4" dur="2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75" dur="2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76" dur="2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9" dur="2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80" dur="2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81" dur="2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4" dur="2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85" dur="2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86" dur="2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9" dur="250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90" dur="250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91" dur="2500" autoRev="1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57" name="_s17412"/>
            <p:cNvCxnSpPr>
              <a:stCxn id="258" idx="0"/>
              <a:endCxn id="25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60" name="_s17413"/>
            <p:cNvCxnSpPr>
              <a:stCxn id="261" idx="0"/>
              <a:endCxn id="25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62" name="_s17414"/>
            <p:cNvCxnSpPr>
              <a:stCxn id="263" idx="0"/>
              <a:endCxn id="25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59" name="_s1741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Qu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_s1741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quie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_s1741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quic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_s1741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quil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7" dur="250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98" dur="250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99" dur="250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2" dur="2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03" dur="2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04" dur="2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7" dur="2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08" dur="2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09" dur="2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2" dur="250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13" dur="250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14" dur="250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65" name="_s18436"/>
            <p:cNvCxnSpPr>
              <a:stCxn id="266" idx="0"/>
              <a:endCxn id="26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68" name="_s18437"/>
            <p:cNvCxnSpPr>
              <a:stCxn id="269" idx="0"/>
              <a:endCxn id="26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0" name="_s18438"/>
            <p:cNvCxnSpPr>
              <a:stCxn id="271" idx="0"/>
              <a:endCxn id="26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67" name="_s1843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_s1844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re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_s1844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ru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_s1844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rea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0" dur="250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21" dur="250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22" dur="250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5" dur="2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26" dur="2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27" dur="2500" autoRev="1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0" dur="2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31" dur="2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32" dur="2500" autoRev="1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5" dur="250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36" dur="250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37" dur="2500" autoRev="1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7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29" name="_s1028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2" name="_s1029"/>
            <p:cNvCxnSpPr>
              <a:stCxn id="133" idx="0"/>
              <a:endCxn id="13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4" name="_s1030"/>
            <p:cNvCxnSpPr>
              <a:stCxn id="135" idx="0"/>
              <a:endCxn id="13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1" name="_s103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an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ar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 advTm="5000">
    <p:diamond/>
    <p:sndAc>
      <p:stSnd>
        <p:snd r:embed="rId1" name="lase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" dur="2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7" dur="2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8" dur="2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3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" dur="250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7" dur="250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8" dur="250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" dur="2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2" dur="2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3" dur="2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73" name="_s19460"/>
            <p:cNvCxnSpPr>
              <a:stCxn id="274" idx="0"/>
              <a:endCxn id="27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6" name="_s19461"/>
            <p:cNvCxnSpPr>
              <a:stCxn id="277" idx="0"/>
              <a:endCxn id="27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8" name="_s19462"/>
            <p:cNvCxnSpPr>
              <a:stCxn id="279" idx="0"/>
              <a:endCxn id="27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75" name="_s1946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_s1946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sh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_s1946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sai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_s1946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seve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3" dur="25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44" dur="25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45" dur="250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8" dur="2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49" dur="2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50" dur="2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3" dur="250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54" dur="250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55" dur="250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8" dur="25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59" dur="25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60" dur="2500" autoRev="1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81" name="_s20484"/>
            <p:cNvCxnSpPr>
              <a:stCxn id="282" idx="0"/>
              <a:endCxn id="28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4" name="_s20485"/>
            <p:cNvCxnSpPr>
              <a:stCxn id="285" idx="0"/>
              <a:endCxn id="28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6" name="_s20486"/>
            <p:cNvCxnSpPr>
              <a:stCxn id="287" idx="0"/>
              <a:endCxn id="28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83" name="_s2048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_s2048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th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_s2048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tha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_s2049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thi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6" dur="25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67" dur="25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68" dur="2500" autoRev="1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1" dur="250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72" dur="250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73" dur="250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6" dur="25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77" dur="25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78" dur="250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1" dur="2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82" dur="2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83" dur="2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89" name="_s21508"/>
            <p:cNvCxnSpPr>
              <a:stCxn id="290" idx="0"/>
              <a:endCxn id="29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92" name="_s21509"/>
            <p:cNvCxnSpPr>
              <a:stCxn id="293" idx="0"/>
              <a:endCxn id="29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94" name="_s21510"/>
            <p:cNvCxnSpPr>
              <a:stCxn id="295" idx="0"/>
              <a:endCxn id="29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91" name="_s2151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U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_s2151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u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_s2151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up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_s2151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unde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9" dur="2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90" dur="2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91" dur="2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4" dur="2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495" dur="2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496" dur="2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9" dur="2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00" dur="2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01" dur="2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4" dur="2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05" dur="2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06" dur="2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297" name="_s22532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00" name="_s22533"/>
            <p:cNvCxnSpPr>
              <a:stCxn id="301" idx="0"/>
              <a:endCxn id="29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02" name="_s22534"/>
            <p:cNvCxnSpPr>
              <a:stCxn id="303" idx="0"/>
              <a:endCxn id="29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99" name="_s2253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V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_s2253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ver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_s2253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viole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_s2253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va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2" dur="2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13" dur="2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14" dur="2500" autoRev="1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7" dur="2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18" dur="2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19" dur="2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2" dur="2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23" dur="2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24" dur="2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7" dur="2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28" dur="2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29" dur="2500" autoRev="1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305" name="_s23556"/>
            <p:cNvCxnSpPr>
              <a:stCxn id="306" idx="0"/>
              <a:endCxn id="30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08" name="_s23557"/>
            <p:cNvCxnSpPr>
              <a:stCxn id="309" idx="0"/>
              <a:endCxn id="30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10" name="_s23558"/>
            <p:cNvCxnSpPr>
              <a:stCxn id="311" idx="0"/>
              <a:endCxn id="30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07" name="_s2355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_s2356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wa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_s2356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with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_s2356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w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5" dur="2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36" dur="2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37" dur="2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0" dur="2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41" dur="2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42" dur="2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5" dur="25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46" dur="25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47" dur="250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0" dur="25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51" dur="25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52" dur="2500" autoRev="1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313" name="_s24580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16" name="_s24581"/>
            <p:cNvCxnSpPr>
              <a:stCxn id="317" idx="0"/>
              <a:endCxn id="31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18" name="_s24582"/>
            <p:cNvCxnSpPr>
              <a:stCxn id="319" idx="0"/>
              <a:endCxn id="31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15" name="_s2458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XYZ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2458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x-ra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2458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you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2458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zo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8" dur="2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59" dur="2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60" dur="2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3" dur="25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64" dur="25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65" dur="250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8" dur="25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69" dur="25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70" dur="25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3" dur="2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74" dur="2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75" dur="2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37" name="_s205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0" name="_s2053"/>
            <p:cNvCxnSpPr>
              <a:stCxn id="141" idx="0"/>
              <a:endCxn id="13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2" name="_s2054"/>
            <p:cNvCxnSpPr>
              <a:stCxn id="143" idx="0"/>
              <a:endCxn id="13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9" name="_s205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205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brow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5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blu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_s205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black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" dur="2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0" dur="2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1" dur="2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" dur="2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55" dur="2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56" dur="2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" dur="2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60" dur="2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61" dur="2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" dur="2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65" dur="2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66" dur="2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45" name="_s3076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8" name="_s3077"/>
            <p:cNvCxnSpPr>
              <a:stCxn id="149" idx="0"/>
              <a:endCxn id="14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0" name="_s3078"/>
            <p:cNvCxnSpPr>
              <a:stCxn id="151" idx="0"/>
              <a:endCxn id="14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47" name="_s307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_s308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colo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308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circl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308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crayo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73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74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" dur="25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79" dur="25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80" dur="25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" dur="2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85" dur="2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86" dur="25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" dur="2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91" dur="2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92" dur="2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53" name="_s410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6" name="_s4101"/>
            <p:cNvCxnSpPr>
              <a:stCxn id="157" idx="0"/>
              <a:endCxn id="155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8" name="_s4102"/>
            <p:cNvCxnSpPr>
              <a:stCxn id="159" idx="0"/>
              <a:endCxn id="155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5" name="_s4103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_s4104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d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_s4105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doe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4106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di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250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99" dur="250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00" dur="250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2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04" dur="2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05" dur="2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" dur="2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09" dur="2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10" dur="2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" dur="2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14" dur="2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15" dur="2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61" name="_s5124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4" name="_s5125"/>
            <p:cNvCxnSpPr>
              <a:stCxn id="165" idx="0"/>
              <a:endCxn id="163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6" name="_s5126"/>
            <p:cNvCxnSpPr>
              <a:stCxn id="167" idx="0"/>
              <a:endCxn id="163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3" name="_s5127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5128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Ed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5129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Ed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5130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Elephant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250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22" dur="250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23" dur="250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2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27" dur="2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28" dur="2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" dur="2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32" dur="2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33" dur="2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6" dur="2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37" dur="2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38" dur="2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69" name="_s6148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6149"/>
            <p:cNvCxnSpPr>
              <a:stCxn id="173" idx="0"/>
              <a:endCxn id="171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6150"/>
            <p:cNvCxnSpPr>
              <a:stCxn id="175" idx="0"/>
              <a:endCxn id="171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1" name="_s6151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6152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fo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6153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four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6154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fiv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2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45" dur="2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46" dur="2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9" dur="2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50" dur="2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51" dur="2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" dur="2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55" dur="2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56" dur="2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9" dur="2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60" dur="2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61" dur="2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77" name="_s7172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0" name="_s7173"/>
            <p:cNvCxnSpPr>
              <a:stCxn id="181" idx="0"/>
              <a:endCxn id="179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2" name="_s7174"/>
            <p:cNvCxnSpPr>
              <a:stCxn id="183" idx="0"/>
              <a:endCxn id="179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9" name="_s7175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G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_s7176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go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_s7177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green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7178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gra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68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69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" dur="2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73" dur="2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74" dur="2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78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79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2" dur="2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83" dur="2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84" dur="2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Organization Chart 2"/>
          <p:cNvGrpSpPr/>
          <p:nvPr/>
        </p:nvGrpSpPr>
        <p:grpSpPr>
          <a:xfrm>
            <a:off x="457200" y="914400"/>
            <a:ext cx="8228880" cy="4494600"/>
            <a:chOff x="457200" y="914400"/>
            <a:chExt cx="8228880" cy="4494600"/>
          </a:xfrm>
        </p:grpSpPr>
        <p:cxnSp>
          <p:nvCxnSpPr>
            <p:cNvPr id="185" name="_s8196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561640" y="172080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8" name="_s8197"/>
            <p:cNvCxnSpPr>
              <a:stCxn id="189" idx="0"/>
              <a:endCxn id="187" idx="1"/>
            </p:cNvCxnSpPr>
            <p:nvPr/>
          </p:nvCxnSpPr>
          <p:spPr>
            <a:xfrm flipV="1">
              <a:off x="4571280" y="2711520"/>
              <a:ext cx="3240" cy="8996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0" name="_s8198"/>
            <p:cNvCxnSpPr>
              <a:stCxn id="191" idx="0"/>
              <a:endCxn id="187" idx="0"/>
            </p:cNvCxnSpPr>
            <p:nvPr/>
          </p:nvCxnSpPr>
          <p:spPr>
            <a:xfrm flipH="1" flipV="1" rot="5400000">
              <a:off x="2681640" y="1721160"/>
              <a:ext cx="899640" cy="2880720"/>
            </a:xfrm>
            <a:prstGeom prst="bentConnector3">
              <a:avLst>
                <a:gd name="adj1" fmla="val 1269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87" name="_s8199"/>
            <p:cNvSpPr/>
            <p:nvPr/>
          </p:nvSpPr>
          <p:spPr>
            <a:xfrm>
              <a:off x="3337200" y="91440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80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_s8200"/>
            <p:cNvSpPr/>
            <p:nvPr/>
          </p:nvSpPr>
          <p:spPr>
            <a:xfrm>
              <a:off x="45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h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_s8201"/>
            <p:cNvSpPr/>
            <p:nvPr/>
          </p:nvSpPr>
          <p:spPr>
            <a:xfrm>
              <a:off x="333720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ha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8202"/>
            <p:cNvSpPr/>
            <p:nvPr/>
          </p:nvSpPr>
          <p:spPr>
            <a:xfrm>
              <a:off x="6217560" y="3611160"/>
              <a:ext cx="2468520" cy="1797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800000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have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5000"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91" dur="2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92" dur="250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5" dur="2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96" dur="2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97" dur="2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0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01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02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5" dur="2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06" dur="2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07" dur="250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2:06:33Z</dcterms:created>
  <dc:creator> </dc:creator>
  <dc:description/>
  <dc:language>en-US</dc:language>
  <cp:lastModifiedBy>cbarrs</cp:lastModifiedBy>
  <dcterms:modified xsi:type="dcterms:W3CDTF">2010-07-08T01:59:45Z</dcterms:modified>
  <cp:revision>6</cp:revision>
  <dc:subject/>
  <dc:title>Sight Words</dc:title>
</cp:coreProperties>
</file>